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E5E5-71A1-4285-A2B8-564F75FD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1A6E-C351-4857-9DA0-116AAB5C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B8EE-8F7F-4617-A6D2-D403F883D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5BBC-863D-4FCE-9267-701A6A304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BD0B-627C-42F3-AF65-87E45711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E9A8-6B02-483E-9F65-58DF58A8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86FD-8853-4348-99A2-A194C741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107F-30EF-4FC0-810A-25DB8CBD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4709-889C-4936-B3B9-51BB51B7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0E41-4AB0-4B1E-A024-5C09F4FD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E4EC-B974-499B-9ADB-C97A1D20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C55A-74BF-4C38-BD1A-F0DED42A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83E8-DAEC-4F71-A7B6-9F39E7121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1447920"/>
            <a:ext cx="685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Adjective endings and noun / adjective agreem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44792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Nouns that end in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-a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are generally feminine and nouns that end in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-o 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generally masculin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1447920"/>
            <a:ext cx="777240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feminine  - la blus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,  la fald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, la camis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masculine - el vestid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, el sombre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, el zapat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144792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Nouns that end in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-e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or a consonant can be either gender and must be learned individuall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447920"/>
            <a:ext cx="777240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feminine  - la estudiant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,  la televis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masculine - el lápiz, el calcetín, el parque, el restaurant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1447920"/>
            <a:ext cx="77724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Adjectives that end in  either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-a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or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-o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hange their ending according to the gender of the noun they modif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838080"/>
            <a:ext cx="853416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m.sg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un chic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alt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f.sg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 un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chic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alt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m.pl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un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chic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alt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f.pl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  un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chic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alt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838080"/>
            <a:ext cx="853416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m.sg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el  señor guap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f.sg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 l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seño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guap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m.pl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l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seño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e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guap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f.pl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  l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seño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guap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1447920"/>
            <a:ext cx="77724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Adjectives that end in  either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-e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or a consonant do not change their ending according to  gender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144792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However, adjectives that end in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-e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do add an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-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if the noun they modify is plura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44792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Adjectives that end in a consonant add an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-e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if the noun they modify is plura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19320" y="1447920"/>
            <a:ext cx="685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Adjective always agree with nouns and articles in Spanish in gender and number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838080"/>
            <a:ext cx="91440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m.sg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un sombre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azu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f.sg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 un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fald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verd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m.pl.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un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sombre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s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azul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f.pl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un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fald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verde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838080"/>
            <a:ext cx="853416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m.sg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el  señor guap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f.sg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 l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seño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guap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m.pl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l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seño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e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guap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f.pl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  l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seño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guap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1447920"/>
            <a:ext cx="853452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Adjective agreement also holds in this case.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L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chic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e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bonit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. Nosot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somo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rubi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1498680"/>
            <a:ext cx="6004080" cy="22978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somo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re verbs. Verbs do not follow these rules in the same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t the appropriate ending on the adjective in each sentence or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89548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Raúl es cómic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2819520"/>
            <a:ext cx="7459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t the appropriate ending on the adjective in each sentence or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289548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Rosalinda es bonit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2819520"/>
            <a:ext cx="7459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t the appropriate ending on the adjective in each sentence or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289548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Bill es rubi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57600" y="2743200"/>
            <a:ext cx="7462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t the appropriate ending on the adjective in each sentence or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289548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Graciela es simpátic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2743200"/>
            <a:ext cx="7462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t the appropriate ending on the adjective in each sentence or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289548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os amigos de Francisco son divertid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95480" y="3657600"/>
            <a:ext cx="9907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t the appropriate ending on the adjective in each sentence or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289548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s faldas son larg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62720" y="2819520"/>
            <a:ext cx="99036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t the appropriate ending on the adjective in each sentence or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289548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is zapatos son negr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2819520"/>
            <a:ext cx="10666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1447920"/>
            <a:ext cx="6858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If a noun is masculine, the adjective which modifies it must be masculine also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t the appropriate ending on the adjective in each sentence or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289548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Yo soy inteligent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57800" y="2819520"/>
            <a:ext cx="7462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t the appropriate ending on the adjective in each sentence or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89548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Bud es un perro gord___ y perezos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5880" y="2819520"/>
            <a:ext cx="7462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3657600"/>
            <a:ext cx="7462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t the appropriate ending on the adjective in each sentence or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89548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l gato en la camiseta de la chica es fe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3657600"/>
            <a:ext cx="7459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t the appropriate ending on the adjective in each sentence or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89548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os chicos son fuert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2819520"/>
            <a:ext cx="9144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t the appropriate ending on the adjective in each sentence or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89548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ónica es muy guap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9920" y="2819520"/>
            <a:ext cx="7459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t the appropriate ending on the adjective in each sentence or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289548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Graciela y Rosalinda son muy buen____ amig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3657600"/>
            <a:ext cx="9907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t the appropriate ending on the adjective in each sentence or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289548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Raúl lleva una chaqueta azul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3657600"/>
            <a:ext cx="7462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t the appropriate ending on the adjective in each sentence or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289548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Rosalinda lleva un vestido amarill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6880" y="3657600"/>
            <a:ext cx="7462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t the appropriate ending on the adjective in each sentence or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89548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Bill lleva una camisa roj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0" y="2819520"/>
            <a:ext cx="7462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t the appropriate ending on the adjective in each sentence or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289548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Graciela tiene una bolsa grand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3657600"/>
            <a:ext cx="7459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19320" y="1447920"/>
            <a:ext cx="685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If a noun is feminine, the adjective which modifies it must be feminine also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t the appropriate ending on the adjective in each sentence or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289548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os zapatos de Bill son blanc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3657600"/>
            <a:ext cx="9907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t the appropriate ending on the adjective in each sentence or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289548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os vaqueros de Raúl son azul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365760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t the appropriate ending on the adjective in each sentence or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89548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falda de Graciela es morad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3733920"/>
            <a:ext cx="7462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t the appropriate ending on the adjective in each sentence or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289548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camisa de Francisco es anaranjad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3657600"/>
            <a:ext cx="7459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09480" y="914400"/>
            <a:ext cx="7391520" cy="537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i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19320" y="1447920"/>
            <a:ext cx="685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If a noun is plural and ends with an -s , the adjective must end in an -s as wel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838080"/>
            <a:ext cx="853416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m.sg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un chic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alt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f.sg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 un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chic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alt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m.pl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un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chic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alt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f.pl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  un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chic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alt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838080"/>
            <a:ext cx="853416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m.sg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el  señor guap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f.sg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 l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seño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guap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m.pl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l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seño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e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guap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f.pl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  l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seño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guap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19320" y="1447920"/>
            <a:ext cx="6858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Many adjectives and many nouns end in the either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-a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or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-o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. Some end in either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-e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or a consonant like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-l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1447920"/>
            <a:ext cx="7772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Nouns have only one gender and always reflect that gender.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0:21:52Z</dcterms:created>
  <dc:creator>Paul Widergren</dc:creator>
  <dc:description/>
  <dc:language>en-US</dc:language>
  <cp:lastModifiedBy>Paul Widergren</cp:lastModifiedBy>
  <dcterms:modified xsi:type="dcterms:W3CDTF">2002-10-04T11:18:00Z</dcterms:modified>
  <cp:revision>1</cp:revision>
  <dc:subject/>
  <dc:title>No Slide Title</dc:title>
</cp:coreProperties>
</file>